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5F0-935A-4413-9A34-CEF77F8A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B49-B296-4B74-9DAB-38D7D97C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8F2-0FE1-4951-B4BC-C4D1249C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473-491E-4FAA-9C04-236C0ED9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A8A-79DF-4F41-B206-A2A8C3E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DB5-B3E1-4700-A567-47F954C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01C6-9A9A-4D79-9C40-38499942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31FA-E34F-45E2-B630-3EE307FD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C8CF-CD25-4699-A29E-9D58B7A2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E46-C15C-4778-AF8B-766158F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6C9D-C43A-482D-BF05-A7E1FA2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882B-1DF8-46BD-93FE-29C1252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7F4-34F0-4364-BB10-0E22AF00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459-397A-4FE4-96E8-FDF36BF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531C-B700-406A-ABDA-64F0A7B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4C1-57BF-44B0-845A-17D9F0D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B83F-0E46-4615-A4B4-DA965ED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1192-E996-4C9B-B3FF-0E6A8E40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91B3-3831-4A4B-A6D0-48664E2F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C6B8-4D06-4CDE-8C4D-B9445D47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62A-BF19-4C20-8CFC-F0098A63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C515-1F02-45E7-8990-2E8348C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7942-AEA7-454C-A382-9A884BC4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9DBD-9945-4DDA-B498-40FCC1B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FF33-997A-46D3-BA37-B1BC783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6102-A0B8-47A9-BC9B-399F8B1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675A-1FBB-4388-9DBC-795838F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A54D-5C5C-4F43-A8F1-6211BFB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F63E-9FB4-4672-8DB4-BCA69BE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15EB-923A-4F26-9112-9FD7AA37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1CFF-D011-4AA9-B351-9E2AE3DC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C3E-F7FA-4D95-BD36-222AD04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48D6-CABF-49CA-9F56-F267ACCD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E5F6-E4FD-4D50-A3A4-37E0AC2A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FB9FB-4729-45C9-B4FE-EB32D28C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0594-8897-4DB1-8B80-9842D3A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8878-84B6-452F-88DA-CA17FA9F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BE38-27AA-43EF-85EC-E398F55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6DF4-E2E5-47C9-A2E4-04E423E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E981-0200-4F02-863A-A37E963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08CC-D193-43EC-B94F-C349C6A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41B4-737A-4487-8A24-E1C7EE1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6B9-D37E-4003-A19B-E9AA46D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0889-CE03-4C71-A746-683A9FC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5AB5-F566-4877-9D0A-7F087757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F0B7-F253-4DB6-A9DF-D52CD855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063-E71F-4C44-95A8-4D27A55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912-B9C1-4649-A3CA-3CE8BA2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E5F34D5-2014-4416-98AF-4B43C9A0198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79F9117-FF0F-4160-AA03-4A9734CE213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CB8DC9F-6772-47C5-B916-64C023B47B0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A6F7D22-BCC9-4633-ADC8-6B67E9CD168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skrót RK-O i podaj różnice pomiędzy resuscytacją a reanimacją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800" spc="-1" strike="noStrike">
                <a:solidFill>
                  <a:srgbClr val="374c81"/>
                </a:solidFill>
                <a:latin typeface="Century Gothic"/>
              </a:rPr>
              <a:t>RK-O – Resuscytacja Krążeniowo-Oddechowa </a:t>
            </a: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Resuscytacja to czynności zmierzające do przywrócenia u poszkodowanego oddechu </a:t>
            </a:r>
            <a:br>
              <a:rPr sz="2800"/>
            </a:b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i krążenia, podczas gdy celem reanimacji jest dodatkowo przywrócenie świadomości poszkodowanego.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8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